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501-DAD4-4DD3-8DFD-442C68D4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s in red for new since May 2006.  Be sure to demo all of the things in RED when you login later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DED-0761-4894-8A20-39ABEDC5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5E1-7819-485F-BF38-9BD8155E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2280-BA3D-4F08-888F-ACDCB13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373-4DC9-4CF0-85EE-5E857DD6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6F2-E03F-4562-819C-A089D703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F3E-ACB9-424C-AB70-D00534E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BBE-7068-49B3-8EEB-8CDBDE2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FE0C-3B71-4FBC-BB23-0320FEC7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C62-BFE8-4C3D-99A8-C4EF937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3D2-F7B7-4744-BCF1-53E946D6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2F2-2170-423A-A39D-E8E4C354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B198-C4F1-4EE1-AA76-9BEE162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01DB-3C91-45A1-AF84-F61314358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for Creating an IDEAL Ac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971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ideal.azed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link on the bottom right- 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tivat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click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llow the directions on the screen that appears after you click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ign u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! and complete the information required once you choose standard or guest accou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unable to create an account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lease contact the IDEAL help desk at 480- 965-94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 They will be happy to help yo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248520" y="4572000"/>
            <a:ext cx="2743200" cy="190512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057400" y="3048120"/>
            <a:ext cx="1600200" cy="914400"/>
          </a:xfrm>
          <a:prstGeom prst="ellipse">
            <a:avLst/>
          </a:prstGeom>
          <a:noFill/>
          <a:ln w="57240">
            <a:solidFill>
              <a:srgbClr val="d600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21:32:19Z</dcterms:created>
  <dc:creator>lumma000</dc:creator>
  <dc:description/>
  <dc:language>en-US</dc:language>
  <cp:lastModifiedBy>lumma000</cp:lastModifiedBy>
  <dcterms:modified xsi:type="dcterms:W3CDTF">2008-04-24T20:45:30Z</dcterms:modified>
  <cp:revision>4</cp:revision>
  <dc:subject/>
  <dc:title>Directions for Creating an IDEAL Account</dc:title>
</cp:coreProperties>
</file>